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7B6-6E44-46CE-848E-37758790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9B7-1D4B-47F0-B6C6-39B34E4E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8F9-13D3-409B-95F8-81B582FC2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8EE5-F195-4BB4-AEBE-D208205D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64F3-C931-4A41-8A6A-09A9E4A8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7A5E-9189-404F-AD77-0F379894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5CB1-25FA-4D66-85E3-84992287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D05C-8051-45D9-B6D0-F788CF62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FBDD-98EA-4ED9-B463-27BFD555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8EA3-9FA0-44EE-BED8-EF53068D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BAD0-85C8-4BF1-B22E-32FA4A8A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A31F-7623-4687-BAAC-2F73126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C6A2-9CA2-4528-BDEB-AB76222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29F6-3950-45DF-948F-3E0037F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8C1D-6E0E-403B-97AE-9C32EC4D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03DA-8B4C-4512-A54C-0A79FBF9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BC07-5D51-4EAF-8F24-508C2F80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CCB-8DFE-4F0D-A496-23942E4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5E0-561B-4E58-B569-49566A8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85F-05D7-4F93-9E33-5367E1E4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568-E835-4199-B29F-F0375D07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36BB-AF07-4BC6-B199-72BA096B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42B-4DA8-4803-86E8-8C9AA08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BE1-FB7C-4DA2-AEC0-EFA93ECC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0240-6154-4EAB-9FDA-82B44AC3E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7C6C-2B44-47F5-AE8A-66DBD6CFD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bcbcb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y-By-Day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Gettysbu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ett’s Charge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ett’s Charge –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kett’s Charge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030200" y="0"/>
            <a:ext cx="2332080" cy="3429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-2 Alt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-685800"/>
            <a:ext cx="746748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Round Top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Round Top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448920" y="1981080"/>
            <a:ext cx="2251080" cy="3429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-3 Alt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-993600"/>
            <a:ext cx="5943600" cy="78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4:11:40Z</dcterms:created>
  <dc:creator>cjohnson</dc:creator>
  <dc:description/>
  <dc:language>en-US</dc:language>
  <cp:lastModifiedBy>Christopher Johnson</cp:lastModifiedBy>
  <dcterms:modified xsi:type="dcterms:W3CDTF">2006-04-12T14:34:32Z</dcterms:modified>
  <cp:revision>4</cp:revision>
  <dc:subject/>
  <dc:title>Battle of Gettysburg</dc:title>
</cp:coreProperties>
</file>